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57.png" ContentType="image/png"/>
  <Override PartName="/ppt/media/image16.wmf" ContentType="image/x-wmf"/>
  <Override PartName="/ppt/media/image45.jpeg" ContentType="image/jpeg"/>
  <Override PartName="/ppt/media/image55.png" ContentType="image/png"/>
  <Override PartName="/ppt/media/image15.jpeg" ContentType="image/jpeg"/>
  <Override PartName="/ppt/media/image29.png" ContentType="image/png"/>
  <Override PartName="/ppt/media/image6.gif" ContentType="image/gif"/>
  <Override PartName="/ppt/media/image14.wmf" ContentType="image/x-wmf"/>
  <Override PartName="/ppt/media/image53.png" ContentType="image/png"/>
  <Override PartName="/ppt/media/image1.png" ContentType="image/png"/>
  <Override PartName="/ppt/media/image23.jpeg" ContentType="image/jpeg"/>
  <Override PartName="/ppt/media/image5.png" ContentType="image/png"/>
  <Override PartName="/ppt/media/image43.jpeg" ContentType="image/jpeg"/>
  <Override PartName="/ppt/media/image17.wmf" ContentType="image/x-wmf"/>
  <Override PartName="/ppt/media/image56.png" ContentType="image/png"/>
  <Override PartName="/ppt/media/image34.png" ContentType="image/png"/>
  <Override PartName="/ppt/media/image44.jpeg" ContentType="image/jpeg"/>
  <Override PartName="/ppt/media/image35.wmf" ContentType="image/x-wmf"/>
  <Override PartName="/ppt/media/image38.png" ContentType="image/png"/>
  <Override PartName="/ppt/media/LATIGO.WAV" ContentType="audio/x-wav"/>
  <Override PartName="/ppt/media/image39.png" ContentType="image/png"/>
  <Override PartName="/ppt/media/image42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51.png" ContentType="image/png"/>
  <Override PartName="/ppt/media/image12.wmf" ContentType="image/x-wmf"/>
  <Override PartName="/ppt/media/image48.jpeg" ContentType="image/jpeg"/>
  <Override PartName="/ppt/media/image49.jpeg" ContentType="image/jpeg"/>
  <Override PartName="/ppt/media/image37.wmf" ContentType="image/x-wmf"/>
  <Override PartName="/ppt/media/image7.wmf" ContentType="image/x-wmf"/>
  <Override PartName="/ppt/media/image3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41.png" ContentType="image/png"/>
  <Override PartName="/ppt/media/wind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C61-0475-4634-A829-2E00E3DA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281-3F88-48E1-965F-391E65C4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7534-6B19-4256-BACB-46A70AB7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DAC6-5214-41CC-B4C6-A0D7AAB85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A51BB-B33A-4029-BC60-D9467590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FF73-91BE-41CC-A819-22BE7CB0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AC88-67C7-4571-BE1A-CA54268C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28EB-F379-4C16-B927-2FB7EA58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5889-2859-4A07-B34C-46BFFD93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DD48-1BA2-4940-8AFD-261B9DF2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FDD2-C0B6-4EFC-890F-0D9E30A2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C76-F860-491E-8257-30EF59DD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EE7C-58A6-490A-8A17-45870CA7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7F22-1B67-4252-AB95-0F82025D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E5BA-00F7-4770-9282-0AE880F1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27F0-BFA9-4F31-A0F6-C079937E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FEBB-D145-4929-9B5C-8536538C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CAA-1BE7-43BE-B4F3-D2D9FE7E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A00-3126-4D3D-A030-844CE2B8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ECA7-93D9-4D97-82DD-16DDEAB9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C6E-6EF4-4DE0-BD2B-12AAD337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9CD0-3307-43E9-BB00-E92CDAD9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B9C-3486-4A6F-9E9B-03762C57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A82-AABF-4134-BF3C-F5D64509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3D71-CB5C-48E9-8798-B5B00A419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534C-70D6-432D-A5CC-47275554AC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1.png"/><Relationship Id="rId7" Type="http://schemas.openxmlformats.org/officeDocument/2006/relationships/image" Target="../media/image34.png"/><Relationship Id="rId8" Type="http://schemas.openxmlformats.org/officeDocument/2006/relationships/image" Target="../media/image35.wmf"/><Relationship Id="rId9" Type="http://schemas.openxmlformats.org/officeDocument/2006/relationships/image" Target="../media/image36.jpeg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41.png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audio" Target="../media/wind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3960" y="476280"/>
            <a:ext cx="2552760" cy="345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00000" y="2522520"/>
            <a:ext cx="7944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RTIFICACIONES DE CALIDAD</a:t>
            </a:r>
            <a:endParaRPr b="0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805360"/>
            <a:ext cx="5760720" cy="648000"/>
          </a:xfrm>
          <a:prstGeom prst="rect">
            <a:avLst/>
          </a:pr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Carlos Romero Góng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Superintendente Corporativo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39640" y="3679920"/>
            <a:ext cx="272736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3527280" y="3675240"/>
            <a:ext cx="442944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LA INDUSTRIA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12000" y="2232000"/>
            <a:ext cx="2633400" cy="2709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20960" y="115920"/>
            <a:ext cx="578340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ff"/>
                </a:solidFill>
                <a:latin typeface="Arial Black"/>
              </a:rPr>
              <a:t>¿COMO PERFECCIONAR LOS PROCESOS DE LA EMPRESA</a:t>
            </a:r>
            <a:r>
              <a:rPr b="0" i="1" lang="es-E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6400" y="3206880"/>
            <a:ext cx="63579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BENCHMARKING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REINGENIER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MEJORAMIENTO CONTINU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KAIZ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INNOVAC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CERTIFICACIO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967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64168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264168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90808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148360" y="3360600"/>
            <a:ext cx="288108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987800"/>
            <a:ext cx="2016000" cy="14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798720" y="5146560"/>
            <a:ext cx="1997280" cy="145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5673600" y="5468760"/>
            <a:ext cx="1851120" cy="13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6620040" y="189000"/>
            <a:ext cx="219996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3716280"/>
            <a:ext cx="3816360" cy="2571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n AUSTRAL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Calidad Certifi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s el pasaporte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ingresar a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más exigentes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85200" y="1123920"/>
            <a:ext cx="836640" cy="10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940360" y="1133640"/>
            <a:ext cx="115272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1944360" cy="968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800000" cy="100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700360" y="3141720"/>
            <a:ext cx="2592360" cy="100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144360" y="115920"/>
            <a:ext cx="1403280" cy="874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92720" y="3141720"/>
            <a:ext cx="1224000" cy="1008000"/>
          </a:xfrm>
          <a:prstGeom prst="rect">
            <a:avLst/>
          </a:prstGeom>
          <a:solidFill>
            <a:srgbClr val="00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5600" y="3284640"/>
            <a:ext cx="114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4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9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532296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25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GMP.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OS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18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A8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728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c905c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BS8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115920"/>
            <a:ext cx="7164360" cy="72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GUNAS CERTIFICACIONES INTERNA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DE RECONOCIDO PRESTIG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7237440" y="2565360"/>
            <a:ext cx="1727280" cy="1039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09520" y="3651120"/>
            <a:ext cx="1914480" cy="95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24000" y="1260360"/>
            <a:ext cx="1871640" cy="1019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2960" y="1557360"/>
            <a:ext cx="4734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91320" y="301464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08772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3645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7236000" y="3716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245440" y="3716280"/>
            <a:ext cx="760320" cy="100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59640" y="3807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93080" y="2997360"/>
            <a:ext cx="180000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00360" y="3500280"/>
            <a:ext cx="5364000" cy="0"/>
          </a:xfrm>
          <a:prstGeom prst="line">
            <a:avLst/>
          </a:prstGeom>
          <a:ln w="76320">
            <a:solidFill>
              <a:srgbClr val="e612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03280" cy="84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492280"/>
            <a:ext cx="60948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2349360"/>
            <a:ext cx="666720" cy="113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64000" y="349992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530520" y="3499920"/>
            <a:ext cx="11858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76360" y="3573360"/>
            <a:ext cx="1224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796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INTEGRANDO SISTEMAS DE CALIDAD CERTIFICADOS. RELACION CAUSA - EFECTO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5299200"/>
            <a:ext cx="1769760" cy="108252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ntigoniBd"/>
              </a:rPr>
              <a:t>F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76360" y="2852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RTIFICADOS DE CALIDA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1895400" cy="95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0" y="5300640"/>
            <a:ext cx="2095560" cy="100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2181240" cy="9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84360" y="1430280"/>
            <a:ext cx="1990800" cy="99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44360" y="115920"/>
            <a:ext cx="1258920" cy="784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26920" y="5950080"/>
            <a:ext cx="863640" cy="214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eam MT"/>
              </a:rPr>
              <a:t>HAC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208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413000"/>
            <a:ext cx="1727280" cy="100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ASD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GE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7128000" cy="6669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41720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9640" y="4730760"/>
            <a:ext cx="4248360" cy="19382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932360" y="907920"/>
            <a:ext cx="3263760" cy="182268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826920" y="1413000"/>
            <a:ext cx="1729080" cy="172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826920" y="2924280"/>
            <a:ext cx="48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O 14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6159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Black"/>
              </a:rPr>
              <a:t>SISTEMA DE GESTION AMBIEN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68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68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7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77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6360" y="609120"/>
            <a:ext cx="599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ff"/>
                </a:solidFill>
                <a:latin typeface="Arial"/>
              </a:rPr>
              <a:t>GESTION DE ETICA EN LOS NEGOCIO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03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14440" y="1916280"/>
            <a:ext cx="5533920" cy="4171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084720" y="2708280"/>
            <a:ext cx="2916360" cy="260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939960" y="4292640"/>
            <a:ext cx="30556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79280" y="1996920"/>
            <a:ext cx="3087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8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ffff"/>
                </a:solidFill>
                <a:latin typeface="Arial"/>
              </a:rPr>
              <a:t>ORGANIZACIONES MUNDIALES PROMOVIENDO LA MEJORA EN LA CALIDAD DE VI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4033800" cy="41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771640" y="1701720"/>
            <a:ext cx="134316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2016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804000" y="1844640"/>
            <a:ext cx="1944720" cy="138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6669000" y="3502080"/>
            <a:ext cx="2367000" cy="100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292720" y="4879800"/>
            <a:ext cx="1708200" cy="16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2124000" y="5122800"/>
            <a:ext cx="1339920" cy="13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439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0920" y="609120"/>
            <a:ext cx="65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QUE BUSCAMOS CERTIFICANDO LA CALIDAD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680" y="112680"/>
            <a:ext cx="16956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08720" y="2709720"/>
            <a:ext cx="271152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2565360"/>
            <a:ext cx="4968720" cy="381636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ALIDAD ES UN ARTE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TE, LA INFORMACION Y 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ALACIONES PERO, POR ENCI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TODO ES UN PROCESO CRE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EL ARTE QUE MEZCLA 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OS INGREDIENTES PARA CR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POCO DE MAGIA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REATIVIDAD, EL COMPROMIS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LA PASION DE QUIENES CRE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ELLA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2600" y="1844640"/>
          <a:ext cx="62881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844640"/>
                    <a:ext cx="6288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00720" y="4869000"/>
            <a:ext cx="2447640" cy="14396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060640"/>
            <a:ext cx="2448000" cy="1439640"/>
          </a:xfrm>
          <a:custGeom>
            <a:avLst/>
            <a:gdLst>
              <a:gd name="textAreaLeft" fmla="*/ 558720 w 2448000"/>
              <a:gd name="textAreaRight" fmla="*/ 1889280 w 2448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TEC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997360"/>
            <a:ext cx="3024000" cy="172872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SATISF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89000"/>
            <a:ext cx="70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CERTIFICAR LA CALIDAD</a:t>
            </a:r>
            <a:br>
              <a:rPr sz="36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SIGNIFICA………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6040" y="115920"/>
            <a:ext cx="144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1640" y="1484280"/>
            <a:ext cx="7273800" cy="4249800"/>
          </a:xfrm>
          <a:custGeom>
            <a:avLst/>
            <a:gdLst>
              <a:gd name="textAreaLeft" fmla="*/ 1660320 w 7273800"/>
              <a:gd name="textAreaRight" fmla="*/ 5613480 w 7273800"/>
              <a:gd name="textAreaTop" fmla="*/ 970200 h 4249800"/>
              <a:gd name="textAreaBottom" fmla="*/ 327960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a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3862440"/>
          <a:ext cx="21589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86244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1008000"/>
          <a:ext cx="2952720" cy="23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008000"/>
                    <a:ext cx="2952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03640" y="4819680"/>
          <a:ext cx="267948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19680"/>
                    <a:ext cx="26794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64000" y="404640"/>
          <a:ext cx="2879640" cy="21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404640"/>
                    <a:ext cx="28796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227640" y="36504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58920" y="1989000"/>
            <a:ext cx="755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 CERTIFICADO TIENE SENTID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 rot="19959600">
            <a:off x="5958000" y="5444640"/>
            <a:ext cx="99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 rot="1843200">
            <a:off x="5321160" y="417600"/>
            <a:ext cx="11289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S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20823000">
            <a:off x="324000" y="3125520"/>
            <a:ext cx="1619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L GENI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 rot="20556600">
            <a:off x="1414080" y="560088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 rot="2678400">
            <a:off x="6649560" y="3068640"/>
            <a:ext cx="23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OCUPACION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27280" y="333360"/>
            <a:ext cx="905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39680" y="44280"/>
            <a:ext cx="1479600" cy="92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11280" y="2637000"/>
            <a:ext cx="4608720" cy="2087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UANDO EXPRESA NO S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 SENTIMIENTO SINO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ANERA AUTENTIC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HACER LAS COSAS. UN 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DE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93040" y="4076640"/>
          <a:ext cx="316368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93040" y="4076640"/>
                    <a:ext cx="31636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9680" y="257040"/>
            <a:ext cx="1768320" cy="1101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84360" y="549360"/>
            <a:ext cx="66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OBLIGACION O CONVICCION</a:t>
            </a:r>
            <a:r>
              <a:rPr b="1" i="1" lang="es-MX" sz="32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13372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W. Edwards Deming:</a:t>
            </a:r>
            <a:br>
              <a:rPr sz="3200"/>
            </a:b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“No es suficiente que la dirección de una empresa se comprometa para toda la vida con la calidad y la productividad.  Debe saber a qué se compromete; es decir,  qué es lo que debe hacer. Estas obligaciones no pueden delegarse. El apoyo no basta. Se requiere acción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1083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Black"/>
              </a:rPr>
              <a:t>CASI TODO LO QUE TRATA SOBRE LA CALIDAD SE REDUCE A NORMAS LARGAS Y PESADAS; MATEMATICA INTIMIDANTE E INCOMPRENSIBLE. GRAN CANTIDAD DE GRAFICOS; LENGUAJE ACADEMICO Y LA EVIDENTE SENSACIÓN DE IMPORTANCIA DE LOS AUT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OM P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20032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3336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LO QUE HACEMOS DÍA A DÍA. DE MODO QUE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CEL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NO ES UN ACTO, SIN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HÁBIT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765000"/>
            <a:ext cx="8359560" cy="4972320"/>
          </a:xfrm>
          <a:prstGeom prst="irregularSeal2">
            <a:avLst/>
          </a:prstGeom>
          <a:solidFill>
            <a:srgbClr val="ccec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ALGUN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NUNCA CAMBIAN REALMEN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SOLO MEJORAN LA FOR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DE FINGIR QUE HAN CAMB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35080"/>
          <a:ext cx="5800680" cy="66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580068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81240" y="5229360"/>
            <a:ext cx="6638760" cy="1323720"/>
          </a:xfrm>
          <a:prstGeom prst="leftRightArrow">
            <a:avLst>
              <a:gd name="adj1" fmla="val 50000"/>
              <a:gd name="adj2" fmla="val 99840"/>
            </a:avLst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L 70 POR CIENTO DE LAS PERSO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RENUNCIAN A SUS JEFES, NO A SUS TRABA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627280" y="404640"/>
            <a:ext cx="6124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 CERTIFICADO DE CALIDAD DE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4520" y="912960"/>
            <a:ext cx="5038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IGINAR UN CAMBIO EN 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415880"/>
            <a:ext cx="5371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ERA DE HACER LAS COS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920" y="42840"/>
            <a:ext cx="1619280" cy="100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844640"/>
            <a:ext cx="3592440" cy="23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646360" y="196920"/>
            <a:ext cx="6029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CALIDAD CERTIFICADA ES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2585880" y="2316240"/>
            <a:ext cx="7357680" cy="3200400"/>
            <a:chOff x="-2585880" y="2316240"/>
            <a:chExt cx="7357680" cy="3200400"/>
          </a:xfrm>
        </p:grpSpPr>
        <p:sp>
          <p:nvSpPr>
            <p:cNvPr id="210" name=""/>
            <p:cNvSpPr/>
            <p:nvPr/>
          </p:nvSpPr>
          <p:spPr>
            <a:xfrm>
              <a:off x="-2585880" y="338292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rcRect l="0" t="0" r="30379" b="0"/>
            <a:stretch/>
          </p:blipFill>
          <p:spPr>
            <a:xfrm>
              <a:off x="2260800" y="3078360"/>
              <a:ext cx="2511000" cy="1778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2" name=""/>
            <p:cNvGraphicFramePr/>
            <p:nvPr/>
          </p:nvGraphicFramePr>
          <p:xfrm>
            <a:off x="564120" y="2316240"/>
            <a:ext cx="2205360" cy="32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20" y="2316240"/>
                      <a:ext cx="220536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4" name=""/>
          <p:cNvSpPr/>
          <p:nvPr/>
        </p:nvSpPr>
        <p:spPr>
          <a:xfrm>
            <a:off x="2266920" y="2781360"/>
            <a:ext cx="3168720" cy="273528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USTED 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OPERAR 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LUGA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MPET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573360"/>
            <a:ext cx="3456000" cy="2448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558720 h 2448000"/>
              <a:gd name="textAreaBottom" fmla="*/ 1889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L EGOIS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Y EL SABOT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MATAN 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TRABAJO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QU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584360" cy="987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16360" y="0"/>
            <a:ext cx="5473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RABAJO DE EQUIP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16720" y="260280"/>
            <a:ext cx="3132000" cy="3240000"/>
          </a:xfrm>
          <a:prstGeom prst="cloudCallout">
            <a:avLst>
              <a:gd name="adj1" fmla="val -83351"/>
              <a:gd name="adj2" fmla="val 48921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330200"/>
            <a:ext cx="417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“</a:t>
            </a: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LA MAYOR OPORTUNIDAD QUE USTED TIENE PARA INCREMENTAR LOS RESULTADOS FINANCIEROS PROVIENE DE PERFECCIONAR SUS PROCESOS DE LA EMPRES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8000" y="95400"/>
            <a:ext cx="153504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700360" y="3068640"/>
          <a:ext cx="619272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3068640"/>
                    <a:ext cx="6192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60920" y="549360"/>
          <a:ext cx="325908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0920" y="549360"/>
                    <a:ext cx="32590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3:50:45Z</dcterms:created>
  <dc:creator> Carlos Romero</dc:creator>
  <dc:description/>
  <dc:language>en-US</dc:language>
  <cp:lastModifiedBy> Carlos Romero</cp:lastModifiedBy>
  <dcterms:modified xsi:type="dcterms:W3CDTF">2005-05-24T20:44:57Z</dcterms:modified>
  <cp:revision>5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183082</vt:lpwstr>
  </property>
</Properties>
</file>